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E7A-956E-4A5E-84E8-C02F2B7F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E43-D8B1-486C-A8E2-07D4057C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910-65BE-4492-8253-90EA9549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D17-11C1-4996-85EE-8D201953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EB4-AE4C-4791-89EC-2FE351B2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CDF-8114-4103-958A-AC8E9580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396-0391-4DA1-B419-68092135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313-06BF-4939-9AF5-35AB079D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629-F5E1-4F3C-B51C-BA46A950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D24-EFF0-45C0-95DC-D1F147F6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C77-7497-4EF1-A8DA-B444777F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3B4-520F-4DF7-993D-39CF5AC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imes New Roman"/>
              </a:rPr>
              <a:t>20.01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imes New Roman"/>
              </a:rPr>
              <a:t>EXPReS Board Meeting, Madrid, 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BD3F3AFB-A2F9-41F9-87D2-FF70CF028C31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JRA1 -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istributed correlation – progress 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(PSNC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1351080"/>
            <a:ext cx="7099560" cy="504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1D6-7A6E-4707-A3A5-F3481338423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WP 2.1.1 Grid – VLBI collaboration (PSNC)</a:t>
            </a:r>
            <a:r>
              <a:rPr b="0" lang="pl-PL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LBI Brok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 the VLBI Broker  (first 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unication with Workflow Management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unication with Translatio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of a distributed version of the VLBI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and implementation of a communication interface with Network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16B-B51D-44F4-8752-9AECCFD33C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P 2.1.2 Grid Workflow Management (PSNC)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flow managemen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 of a Workflow Management Module with the following function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to load a vex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to convert a vex file to CC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F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to create an observation workf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to submit a workflow for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rrelator Job Submission Mod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of a module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and implementation of a communication interface with VLBI Bro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9DA-5459-4E16-B8A7-2555A748EE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P 2.1.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Grid routing (PSNC)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twork mod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of a module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and implementation of a communication interface with VLBI Bro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63A-2483-4827-A688-7054EC7B5B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INGRID 2009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submission:  January 31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ull paper submission: April 1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4th International workshop on Distributed Cooperative Laboratories: „Instrumenting” th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April 1-3, 2009 Sardinia,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2960" y="49672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http://www.ingrid.cnit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BCD-781D-4401-9076-7040D9ABDF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Dominik Stoklosa</cp:lastModifiedBy>
  <dcterms:modified xsi:type="dcterms:W3CDTF">2009-01-21T12:43:16Z</dcterms:modified>
  <cp:revision>43</cp:revision>
  <dc:subject/>
  <dc:title>Slide 1</dc:title>
</cp:coreProperties>
</file>